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wmf" ContentType="image/x-wmf"/>
  <Override PartName="/ppt/media/image9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13EDD-D8CA-4D2F-B1E8-44A5B48D2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DA0ED-E03A-45D5-8D61-370BABE08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91E2B-1030-4CFA-92FB-B4843DD9D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D966B-AA32-45C4-8A80-8899DD7AB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86708-5864-4B1B-A848-A65B00FBB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17ADB-1ADF-4736-8294-D82EFE1D3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218E0-7EB1-4555-A4AB-1E671666D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1831B-0CE7-4351-9D68-42CA67373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9C3BC-E80A-44B9-8D57-DB982D063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25153-4B38-4DA8-8789-9BAB64884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46DB7-4DC3-42D9-AD67-75CEF4EDF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41010-AAAC-4DC6-8551-B9782D9C6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48983-9E4A-40E3-8822-4843BC5B0E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Ob 22.41 potrka na vrata 72-letni pacient prišepa v ambulanto in dvigne levo hlačnico rekoč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Levo koleno mi je včeraj ponoči začelo otekati, vedno bolj me boli, sedaj je že nevzdržno. Prosim, storite kaj, Lekadol in Ketonal mi nič več ne pomagata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Kaj je nujen naslednji korak (23h)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34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Takoj začeti zdravljenje z antibiotik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Lab. preiskave + punkcija sredi noč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Čimprejšnje razgibavanje kolena, lab. preiskave in punkcija jut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Rtg kole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5345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Kdo bo opravil punkcijo kolen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Tisti, ki je usposoblj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Ima aseptične pogoje za izvedbo punkci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Bo poslal vzorec na mikrobiološki pregl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Bo v primeru gnojnega punktata znal ukrepati napre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0000"/>
                </a:solidFill>
                <a:latin typeface="Arial"/>
              </a:rPr>
              <a:t>NE ANTIBIOTIKA, DOKLER NI KUŽNIN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Laboratorijske preiskave urgentn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5" descr="0"/>
          <p:cNvPicPr/>
          <p:nvPr/>
        </p:nvPicPr>
        <p:blipFill>
          <a:blip r:embed="rId1"/>
          <a:stretch/>
        </p:blipFill>
        <p:spPr>
          <a:xfrm>
            <a:off x="2286000" y="171468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7"/>
          <p:cNvGrpSpPr/>
          <p:nvPr/>
        </p:nvGrpSpPr>
        <p:grpSpPr>
          <a:xfrm>
            <a:off x="990720" y="1494000"/>
            <a:ext cx="7315200" cy="4678200"/>
            <a:chOff x="990720" y="1494000"/>
            <a:chExt cx="7315200" cy="4678200"/>
          </a:xfrm>
        </p:grpSpPr>
        <p:pic>
          <p:nvPicPr>
            <p:cNvPr id="69" name="Picture 5" descr="M7250378-Fluid_aspiration_for_arthritis_treatment-SPL"/>
            <p:cNvPicPr/>
            <p:nvPr/>
          </p:nvPicPr>
          <p:blipFill>
            <a:blip r:embed="rId1"/>
            <a:stretch/>
          </p:blipFill>
          <p:spPr>
            <a:xfrm>
              <a:off x="1514520" y="1494000"/>
              <a:ext cx="6410160" cy="422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Rectangle 6"/>
            <p:cNvSpPr/>
            <p:nvPr/>
          </p:nvSpPr>
          <p:spPr>
            <a:xfrm>
              <a:off x="990720" y="5257800"/>
              <a:ext cx="731520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 komu bi napotili takšnega pacient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Revmatolog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Infektolog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Internistična prva pomo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Ortop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VOZ V BOLNIŠN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5" descr="ambulance600"/>
          <p:cNvPicPr/>
          <p:nvPr/>
        </p:nvPicPr>
        <p:blipFill>
          <a:blip r:embed="rId1"/>
          <a:stretch/>
        </p:blipFill>
        <p:spPr>
          <a:xfrm>
            <a:off x="1143000" y="1219320"/>
            <a:ext cx="7010280" cy="46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Lab. preiskave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CRP 150</a:t>
            </a:r>
            <a:br>
              <a:rPr sz="3200"/>
            </a:b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leukociti 11,5 s pomikom v levo</a:t>
            </a:r>
            <a:br>
              <a:rPr sz="3200"/>
            </a:b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glukoza 13,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Punkcija: 50 ml, moten, gost, rumenorja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Glukometer punktata: glukoza 2’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Kaj je treba storiti s punktatom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419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Poslati na mikrobiološko kultu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Poslati na razmaz po Gramu, mikrobiol. kulturo in mikroskopski pregled kristal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Makroskopsko oceniti prisotnost bakteri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Zavreči v zabojnik za kužno vsebi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mski razmaz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v 2 ur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krobiološka kultura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v 1-2 dne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kroskopski pregled kristalov:  1 ted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ra je sedaj 01:00 zjutraj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aj ob 01:00 potrebuje pacien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(Artroskopsko) izpiranje kolena in i.v. at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i.v. antibiotik, izpiranje če ni izboljšan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Peroralni antibiotik in razgibavan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Imobilizacija, atb po izvidu mikrob kul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5" descr="knee-deep"/>
          <p:cNvPicPr/>
          <p:nvPr/>
        </p:nvPicPr>
        <p:blipFill>
          <a:blip r:embed="rId1"/>
          <a:stretch/>
        </p:blipFill>
        <p:spPr>
          <a:xfrm>
            <a:off x="2209680" y="0"/>
            <a:ext cx="4572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1440" indent="-2714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Izpiranje kolena, po možnosti artroskopsk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Eventuelne hemokult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i.v. atb, analgetik, imobilizacija, hlajen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Po mikrob. izvidu prilagoditev atb terapije (negativen izvid ne izključuje septičnega artritisa!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Ponovitev izpiranja, če ponovno oteč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Po 2-3 neuspešnih izpiranjih artrotomij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5" descr="0"/>
          <p:cNvPicPr/>
          <p:nvPr/>
        </p:nvPicPr>
        <p:blipFill>
          <a:blip r:embed="rId1"/>
          <a:stretch/>
        </p:blipFill>
        <p:spPr>
          <a:xfrm>
            <a:off x="2209680" y="1600200"/>
            <a:ext cx="480060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olgoročne posledice po uspešno pozdravljenem septičnem artritisu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Gigantocelularni tumor sinovialne ovojn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Artroza skle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Otekanje malih sklepov r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Ruptura meniskus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Usoda pacientov s septičnim artritisom kolena pred dobo antibiotikov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- Artroza skle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- Kostna ankiloza sklepa (fibrozna pri TB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- Sepsa, lahko tudi sm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Kako ločimo septični artritis od akutne putik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-5911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Povišan CRP pri septičnem artritis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Povišan urat pri akutni putik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Po makroskopskem izgledu punkt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Pozitivna mikrobiologija in odsotnost kristalov v punktat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Kakšno je zdravljenje akutnega napada putik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-5911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Punkcija, razgibavanje, gretje, alopurin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Punkcija, imobilizacija, hlajenje, NS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i.v. atb, izpiranje kolena, hlajen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Razbijanje kristalov z UZ valov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PTIČNI ARTRIT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TAKE-HOME-MESSAG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(= </a:t>
            </a:r>
            <a:r>
              <a:rPr b="0" i="1" lang="sl-SI" sz="2800" spc="-1" strike="noStrike">
                <a:solidFill>
                  <a:srgbClr val="000000"/>
                </a:solidFill>
                <a:latin typeface="Arial"/>
              </a:rPr>
              <a:t>če ste prespali seminar, vsaj to poslušajte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Izliv v sklepu + vročina ali mrzlica 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sum na septični artrit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Septični artritis od putičnega lahko ločimo le z mikrobiološkimi-mikroskopskimi preiskavam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6"/>
          <p:cNvSpPr/>
          <p:nvPr/>
        </p:nvSpPr>
        <p:spPr>
          <a:xfrm>
            <a:off x="45720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KE-HOME-MESSAG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rgentno stanje, potencialno resne posled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ez anamneze/pregleda ne morete pravilno oceniti urgentnosti in bolnika pravilno napoti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gled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nkcija/lab.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zpiranje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.v. antibioti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pake: odklonitev pacienta, zakasnitev, p.o. antibiotik, antibiotik pred punkcijo, brez izpiran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7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PTIČNI ARTRIT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228240" y="4724280"/>
            <a:ext cx="8839080" cy="14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vala, ker ste mi pozdravili koleno. Že jutri bom glasoval za vas v Janini akciji “Zdravnik leta”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6" descr="4818823-happy-elderly-man-in-a-garden"/>
          <p:cNvPicPr/>
          <p:nvPr/>
        </p:nvPicPr>
        <p:blipFill>
          <a:blip r:embed="rId1"/>
          <a:stretch/>
        </p:blipFill>
        <p:spPr>
          <a:xfrm>
            <a:off x="1447920" y="0"/>
            <a:ext cx="6238800" cy="44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j je pomembno vprašati v anamnez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oliko časa oteklina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vič v življenju? Drugi sklepi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ročina? Mrzlic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rožilni dejavniki (poškodba)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ontane bolečine, nočne bolečin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uge bolezni, zdravila, alergi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Pacient nam odgovor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Koleno začelo otekati ponoči, se slabš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Oteklina kolena prvič, drugi sklepi b.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Imel vročino do 38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°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C, občasno mrzlic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Ne spomni se poškodb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Bolečine v mirovanju, tudi ponoč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Redno jemlje insulin, alergij ne navaj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aj je naš naslednji korak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nkcija kole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linični pregled kole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zdamo napotnico za laboratorijske preiskave vnetnih parametrov (jutr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cienta takoj napotimo v bolnišn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Klinični pregled kolena naj obseg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Inspekcija (meritve, primerjava z zdrav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Palpacija (oteklina, izliv ali zadebelitev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Znaki vnetja (rubor, tumor, dolor, calor, f.l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Obseg gibljivosti (iztegnjeno = 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°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 fleksij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Nevrološki status spodnje ekstremite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Boleče toč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6" descr="3014"/>
          <p:cNvPicPr/>
          <p:nvPr/>
        </p:nvPicPr>
        <p:blipFill>
          <a:blip r:embed="rId1"/>
          <a:stretch/>
        </p:blipFill>
        <p:spPr>
          <a:xfrm>
            <a:off x="1714680" y="0"/>
            <a:ext cx="5715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Pri pregledu ugotovit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Levo koleno močno otek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Pozitiven balottement (obsežen izliv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Brez rdečine, toplejše, boleč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Gibljivost 2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°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 - 5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°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 fleksije (kontraktur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Nevrološki status b.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Difuzna bolečnost, brez lokaliziranih toč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Krvni sladkor (glukometer) 12,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Kakšna je naša delovna diagnoz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ptični artritis kole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kutni napad puti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ztirjena sladkorna bolez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labšanje artroze kole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B</cp:lastModifiedBy>
  <dcterms:modified xsi:type="dcterms:W3CDTF">2012-10-10T05:08:42Z</dcterms:modified>
  <cp:revision>13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